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4564063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FF6-9F80-4FF8-B214-CD489D75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3A3-8CD8-4571-87B7-4C54CEA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964-839C-48D9-A4E9-1744D823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A94-475E-449C-BB91-05273F78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7FB-3291-4586-9CD3-F0A4E68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DE7-6A2B-44DB-AFF6-8B4A1C06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256-07FD-4687-8AF7-E81B3FD2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FF8-865C-4DC7-8696-7A1A01AE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0685-2363-4741-AFEB-FA0E3E2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B0B-3A77-40CF-94F4-10D37BC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284-5293-4284-852E-7500B71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1C1-99AC-4BA1-A313-7D7D734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033-DC10-43A4-A276-48847AF44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2546280"/>
            <a:ext cx="8280360" cy="288468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0464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0200" y="5324400"/>
            <a:ext cx="82803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6000" spc="-1" strike="noStrike">
                <a:solidFill>
                  <a:srgbClr val="333399"/>
                </a:solidFill>
                <a:latin typeface="Book Antiqua"/>
              </a:rPr>
              <a:t>Перемещения в СН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250920" y="608040"/>
            <a:ext cx="86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кинематических воздействий (смещений связ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1087560"/>
            <a:ext cx="53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и смещаемых связ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1773360"/>
            <a:ext cx="547344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  – реакции от единичного воздействия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841920" y="2297160"/>
                <a:ext cx="477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575240" y="2000160"/>
                <a:ext cx="2736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6299280" y="4632480"/>
            <a:ext cx="2160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900000" y="3408480"/>
            <a:ext cx="4967280" cy="131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1800" y="145728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9200" y="38019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2960" y="1100160"/>
            <a:ext cx="2520720" cy="116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136520" y="1023840"/>
                <a:ext cx="2078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116000" y="1803240"/>
                <a:ext cx="20318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92000" y="3801960"/>
                <a:ext cx="4870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994280" y="4665600"/>
                <a:ext cx="1363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597640" y="3868560"/>
                <a:ext cx="2368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, 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971640" y="3387600"/>
                <a:ext cx="4824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 rot="5400000">
            <a:off x="3198240" y="3076560"/>
            <a:ext cx="179280" cy="3274920"/>
          </a:xfrm>
          <a:custGeom>
            <a:avLst/>
            <a:gdLst>
              <a:gd name="textAreaLeft" fmla="*/ 0 w 179280"/>
              <a:gd name="textAreaRight" fmla="*/ 64800 w 179280"/>
              <a:gd name="textAreaTop" fmla="*/ 85320 h 3274920"/>
              <a:gd name="textAreaBottom" fmla="*/ 3189600 h 32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 rot="16200000">
            <a:off x="2003040" y="2967840"/>
            <a:ext cx="133560" cy="863640"/>
          </a:xfrm>
          <a:custGeom>
            <a:avLst/>
            <a:gdLst>
              <a:gd name="textAreaLeft" fmla="*/ 0 w 133560"/>
              <a:gd name="textAreaRight" fmla="*/ 48240 w 133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674720" y="297972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855880" y="474660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622840" y="3141720"/>
                <a:ext cx="67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6253200" y="3213000"/>
            <a:ext cx="256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т упругих деформ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элементов, 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ответству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ющих усилиям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7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34440" y="4114800"/>
            <a:ext cx="1609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ых сме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ий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0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8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9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0" dur="8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5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6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7" dur="8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250920" y="608040"/>
            <a:ext cx="86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кинематических воздействий (смещений связ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92360" y="1087560"/>
            <a:ext cx="53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и смещаемых связ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99280" y="4632480"/>
            <a:ext cx="2160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00000" y="3408480"/>
            <a:ext cx="4967280" cy="131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1800" y="145728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9200" y="38019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2960" y="1100160"/>
            <a:ext cx="2520720" cy="116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136520" y="1023840"/>
                <a:ext cx="2078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1116000" y="1803240"/>
                <a:ext cx="20318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4994280" y="4665600"/>
                <a:ext cx="1363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6105600" y="196056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961240" y="2682720"/>
            <a:ext cx="28728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42320" y="2682720"/>
            <a:ext cx="28728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61240" y="2682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42320" y="2682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35920" y="263052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464160" y="217980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61280" y="2216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627960" y="15858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08880" y="155736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911760" y="196704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767040" y="2689200"/>
            <a:ext cx="28728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848120" y="2689200"/>
            <a:ext cx="28728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767040" y="2689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848120" y="26892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941720" y="26370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270320" y="218592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267080" y="22194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29280" y="2968560"/>
            <a:ext cx="28728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29280" y="2968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22880" y="29163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18040" y="270972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971960" y="250992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84880" y="2717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23040" y="26780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01000" y="2687760"/>
            <a:ext cx="855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57400" y="5468760"/>
            <a:ext cx="1079280" cy="72108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012680" y="6191280"/>
            <a:ext cx="28764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093760" y="6191280"/>
            <a:ext cx="287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12680" y="6191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93760" y="6191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187720" y="6138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515960" y="568800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12720" y="57214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74920" y="6470640"/>
            <a:ext cx="28728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74920" y="64706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68520" y="6418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263680" y="621180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17600" y="601200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109400" y="5468760"/>
            <a:ext cx="174600" cy="719280"/>
          </a:xfrm>
          <a:custGeom>
            <a:avLst/>
            <a:gdLst/>
            <a:ahLst/>
            <a:rect l="l" t="t" r="r" b="b"/>
            <a:pathLst>
              <a:path w="117" h="455">
                <a:moveTo>
                  <a:pt x="0" y="1"/>
                </a:moveTo>
                <a:lnTo>
                  <a:pt x="117" y="0"/>
                </a:lnTo>
                <a:lnTo>
                  <a:pt x="0" y="455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886120" y="5464080"/>
            <a:ext cx="328680" cy="712800"/>
          </a:xfrm>
          <a:custGeom>
            <a:avLst/>
            <a:gdLst/>
            <a:ahLst/>
            <a:rect l="l" t="t" r="r" b="b"/>
            <a:pathLst>
              <a:path w="157" h="449">
                <a:moveTo>
                  <a:pt x="157" y="0"/>
                </a:moveTo>
                <a:lnTo>
                  <a:pt x="81" y="0"/>
                </a:lnTo>
                <a:lnTo>
                  <a:pt x="0" y="449"/>
                </a:lnTo>
                <a:lnTo>
                  <a:pt x="153" y="448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5080" y="5318280"/>
            <a:ext cx="1076400" cy="311040"/>
          </a:xfrm>
          <a:custGeom>
            <a:avLst/>
            <a:gdLst/>
            <a:ahLst/>
            <a:rect l="l" t="t" r="r" b="b"/>
            <a:pathLst>
              <a:path w="678" h="196">
                <a:moveTo>
                  <a:pt x="0" y="95"/>
                </a:moveTo>
                <a:lnTo>
                  <a:pt x="2" y="0"/>
                </a:lnTo>
                <a:lnTo>
                  <a:pt x="678" y="196"/>
                </a:lnTo>
                <a:lnTo>
                  <a:pt x="678" y="96"/>
                </a:lnTo>
              </a:path>
            </a:pathLst>
          </a:custGeom>
          <a:blipFill rotWithShape="0">
            <a:blip r:embed="rId11">
              <a:alphaModFix amt="30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05080" y="546732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11440" y="5713560"/>
            <a:ext cx="468360" cy="46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1480" y="5695920"/>
            <a:ext cx="7538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07120" y="5468760"/>
            <a:ext cx="1079280" cy="72108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162400" y="6191280"/>
            <a:ext cx="28764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243480" y="6191280"/>
            <a:ext cx="28764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62400" y="6191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43480" y="6191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337440" y="6138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259240" y="61387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340320" y="54198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594400" y="5688000"/>
            <a:ext cx="50472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613480" y="57308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29480" y="51404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810400" y="510228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92920" y="5472000"/>
            <a:ext cx="1079640" cy="290520"/>
          </a:xfrm>
          <a:custGeom>
            <a:avLst/>
            <a:gdLst/>
            <a:ahLst/>
            <a:rect l="l" t="t" r="r" b="b"/>
            <a:pathLst>
              <a:path w="680" h="183">
                <a:moveTo>
                  <a:pt x="0" y="0"/>
                </a:moveTo>
                <a:lnTo>
                  <a:pt x="344" y="183"/>
                </a:lnTo>
                <a:lnTo>
                  <a:pt x="680" y="0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92920" y="547200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43720" y="5472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140600" y="5824440"/>
                <a:ext cx="6411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7199280" y="5781600"/>
            <a:ext cx="468360" cy="468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386400" y="62308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4560" y="6191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6415200" y="6202440"/>
                <a:ext cx="5331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792000" y="3801960"/>
                <a:ext cx="4870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5597640" y="3868560"/>
                <a:ext cx="23684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, 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971640" y="3387600"/>
                <a:ext cx="482436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 rot="5400000">
            <a:off x="3198240" y="3076560"/>
            <a:ext cx="179280" cy="3274920"/>
          </a:xfrm>
          <a:custGeom>
            <a:avLst/>
            <a:gdLst>
              <a:gd name="textAreaLeft" fmla="*/ 0 w 179280"/>
              <a:gd name="textAreaRight" fmla="*/ 64800 w 179280"/>
              <a:gd name="textAreaTop" fmla="*/ 85320 h 3274920"/>
              <a:gd name="textAreaBottom" fmla="*/ 3189600 h 32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 rot="16200000">
            <a:off x="2003040" y="2967840"/>
            <a:ext cx="133560" cy="863640"/>
          </a:xfrm>
          <a:custGeom>
            <a:avLst/>
            <a:gdLst>
              <a:gd name="textAreaLeft" fmla="*/ 0 w 133560"/>
              <a:gd name="textAreaRight" fmla="*/ 48240 w 133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1674720" y="297972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855880" y="474660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5622840" y="3141720"/>
                <a:ext cx="67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6253200" y="3213000"/>
            <a:ext cx="256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т упругих деформац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элементов, 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оответству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Arial Narrow"/>
              </a:rPr>
              <a:t>ющих усилиям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700" spc="-1" strike="noStrike" baseline="-25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34440" y="4114800"/>
            <a:ext cx="16095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зад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ых сме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ий связ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8" dur="indefinite" restart="never" nodeType="tmRoot">
          <p:childTnLst>
            <p:seq>
              <p:cTn id="1889" dur="indefinite" nodeType="mainSeq">
                <p:childTnLst>
                  <p:par>
                    <p:cTn id="1890" fill="hold">
                      <p:stCondLst>
                        <p:cond delay="0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2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6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0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6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9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0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3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252360" y="800280"/>
            <a:ext cx="8640720" cy="54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КОМЕНДАЦИИ  ПО ВЫБОР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СПОМОГАТЕЛЬНЫХ  СТАТИЧЕСКИ  ОПРЕДЕЛИМЫХ  СИСТЕМ (ВСОС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5840" y="1459080"/>
            <a:ext cx="85564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если требуется найти несколько перемещений, то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ля определения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ждого из них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целесообразно использовать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вою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вспомогательную СО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рациональную  в  расчёте  на  соответствующее  единичное воздейств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ющую наиболее компактное распределение единичных усилий    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2921040"/>
            <a:ext cx="8642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если расчёт СНС на заданное воздействие выполняется методом сил, то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спомогательная СОС может выбираться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независим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от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акая статически определимая система была выбрана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сновной 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етода сил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427720" y="2567160"/>
                <a:ext cx="3315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250920" y="4233960"/>
            <a:ext cx="8642160" cy="11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пособ выполнения рекомендации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это допускает  структура заданной СНС,  то вспомогательную СОС  выгодно выбирать так, чтобы сечение (точка) с подлежащим определению перемеще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казывалось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на главной части ВСО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5407200"/>
            <a:ext cx="86421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астный случа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вблизи от места с определяемым перемещением име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порное защемление, то во вспомогательной С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его 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целесообразно сохранит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0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3900"/>
                            </p:stCondLst>
                            <p:childTnLst>
                              <p:par>
                                <p:cTn id="2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9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0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13260"/>
                            </p:stCondLst>
                            <p:childTnLst>
                              <p:par>
                                <p:cTn id="2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6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8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2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3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4" dur="8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6200"/>
                            </p:stCondLst>
                            <p:childTnLst>
                              <p:par>
                                <p:cTn id="2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8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9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0" dur="8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7" dur="8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8" dur="8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9" dur="8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4640"/>
                            </p:stCondLst>
                            <p:childTnLst>
                              <p:par>
                                <p:cTn id="2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3" dur="8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4" dur="8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5" dur="8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89360" y="56052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П р и м е 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068720" y="2133720"/>
            <a:ext cx="28728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36720" y="1606680"/>
            <a:ext cx="28728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068720" y="21337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836720" y="16066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646920" y="1304280"/>
            <a:ext cx="287280" cy="7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5480" y="11970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6920" y="1339920"/>
            <a:ext cx="3384720" cy="79200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496960" y="128736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18000" y="128736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979640" y="14112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30320" y="135396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33560" y="155880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26920" y="2421000"/>
            <a:ext cx="33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26920" y="162864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03280" y="162864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79640" y="170028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543040" y="162864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60840" y="1628640"/>
            <a:ext cx="0" cy="863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1640" y="220500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75160" y="1341360"/>
            <a:ext cx="0" cy="79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363560" y="2133720"/>
            <a:ext cx="17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277880" y="134136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4284360" y="1616040"/>
            <a:ext cx="25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789120" y="2382840"/>
            <a:ext cx="7272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368360" y="23828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940040" y="23828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2508120" y="23828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3622680" y="23828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176720" y="238284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4440240" y="130968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4441320" y="157644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4441320" y="209988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971640" y="2133720"/>
            <a:ext cx="28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46200" y="213372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13120" y="2133720"/>
            <a:ext cx="50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78200" y="213372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2560" y="2133720"/>
            <a:ext cx="28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4440600" y="1712520"/>
            <a:ext cx="288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4324680" y="1296000"/>
            <a:ext cx="514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03280" y="1243080"/>
            <a:ext cx="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83200" y="158112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1062000"/>
            <a:ext cx="360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6680" y="14461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7964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20176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2424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64636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6380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9240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2100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3700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6704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8952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11640" y="1144440"/>
            <a:ext cx="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79640" y="1138320"/>
            <a:ext cx="22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968560" y="80316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54200" y="1306440"/>
            <a:ext cx="1225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I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003640" y="901800"/>
            <a:ext cx="388800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бует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пре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оризонтальное перемещ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 угол поворота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–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281640" y="168120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63520" y="5956200"/>
                <a:ext cx="5892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0,1875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,1875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395280" y="2565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ействительное состояние заданной С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25480" y="3206880"/>
            <a:ext cx="3386160" cy="536400"/>
          </a:xfrm>
          <a:custGeom>
            <a:avLst/>
            <a:gdLst/>
            <a:ahLst/>
            <a:rect l="l" t="t" r="r" b="b"/>
            <a:pathLst>
              <a:path w="2133" h="338">
                <a:moveTo>
                  <a:pt x="1" y="227"/>
                </a:moveTo>
                <a:cubicBezTo>
                  <a:pt x="1" y="245"/>
                  <a:pt x="0" y="246"/>
                  <a:pt x="0" y="338"/>
                </a:cubicBezTo>
                <a:cubicBezTo>
                  <a:pt x="252" y="222"/>
                  <a:pt x="240" y="226"/>
                  <a:pt x="727" y="0"/>
                </a:cubicBezTo>
                <a:cubicBezTo>
                  <a:pt x="812" y="70"/>
                  <a:pt x="808" y="62"/>
                  <a:pt x="848" y="90"/>
                </a:cubicBezTo>
                <a:cubicBezTo>
                  <a:pt x="888" y="118"/>
                  <a:pt x="929" y="147"/>
                  <a:pt x="968" y="170"/>
                </a:cubicBezTo>
                <a:cubicBezTo>
                  <a:pt x="1007" y="193"/>
                  <a:pt x="1045" y="210"/>
                  <a:pt x="1080" y="226"/>
                </a:cubicBezTo>
                <a:cubicBezTo>
                  <a:pt x="1115" y="242"/>
                  <a:pt x="1135" y="253"/>
                  <a:pt x="1180" y="266"/>
                </a:cubicBezTo>
                <a:cubicBezTo>
                  <a:pt x="1225" y="279"/>
                  <a:pt x="1294" y="300"/>
                  <a:pt x="1348" y="307"/>
                </a:cubicBezTo>
                <a:cubicBezTo>
                  <a:pt x="1402" y="314"/>
                  <a:pt x="1449" y="316"/>
                  <a:pt x="1504" y="311"/>
                </a:cubicBezTo>
                <a:cubicBezTo>
                  <a:pt x="1559" y="306"/>
                  <a:pt x="1617" y="293"/>
                  <a:pt x="1676" y="274"/>
                </a:cubicBezTo>
                <a:cubicBezTo>
                  <a:pt x="1735" y="255"/>
                  <a:pt x="1801" y="223"/>
                  <a:pt x="1856" y="194"/>
                </a:cubicBezTo>
                <a:cubicBezTo>
                  <a:pt x="1911" y="165"/>
                  <a:pt x="1962" y="130"/>
                  <a:pt x="2008" y="98"/>
                </a:cubicBezTo>
                <a:cubicBezTo>
                  <a:pt x="2054" y="66"/>
                  <a:pt x="2072" y="58"/>
                  <a:pt x="2132" y="2"/>
                </a:cubicBezTo>
                <a:cubicBezTo>
                  <a:pt x="2132" y="162"/>
                  <a:pt x="2133" y="180"/>
                  <a:pt x="2133" y="227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79640" y="320688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29120" y="3573360"/>
            <a:ext cx="542880" cy="790560"/>
          </a:xfrm>
          <a:custGeom>
            <a:avLst/>
            <a:gdLst/>
            <a:ahLst/>
            <a:rect l="l" t="t" r="r" b="b"/>
            <a:pathLst>
              <a:path w="342" h="498">
                <a:moveTo>
                  <a:pt x="115" y="0"/>
                </a:moveTo>
                <a:lnTo>
                  <a:pt x="342" y="0"/>
                </a:lnTo>
                <a:lnTo>
                  <a:pt x="0" y="498"/>
                </a:lnTo>
                <a:lnTo>
                  <a:pt x="114" y="498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26920" y="3573360"/>
            <a:ext cx="3384720" cy="79236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739880" y="2878200"/>
            <a:ext cx="86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02280" y="3198960"/>
            <a:ext cx="863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58720" y="3708360"/>
            <a:ext cx="979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103560" y="3571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98960" y="4121280"/>
            <a:ext cx="979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852640" y="3673440"/>
            <a:ext cx="836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5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152800" y="384660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128680" y="3851280"/>
            <a:ext cx="6480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4672080"/>
            <a:ext cx="37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угла поворот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9640" y="5365800"/>
            <a:ext cx="2159280" cy="53964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987640" y="5365800"/>
            <a:ext cx="2158920" cy="53964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68600" y="5905440"/>
            <a:ext cx="2523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68600" y="59054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5400000">
            <a:off x="357120" y="5323680"/>
            <a:ext cx="287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36400" y="5216400"/>
            <a:ext cx="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652840" y="58532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24160" y="531648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95520" y="53182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3920" y="5214960"/>
            <a:ext cx="285120" cy="28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32036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320363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12960" y="521352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36560" y="5159520"/>
            <a:ext cx="250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814320" y="5470560"/>
                <a:ext cx="576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2975040" y="5148360"/>
            <a:ext cx="360360" cy="215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9640" y="5541840"/>
            <a:ext cx="0" cy="46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09720" y="579600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539280" y="5954760"/>
            <a:ext cx="366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06520" y="5915160"/>
            <a:ext cx="730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873000" y="5920920"/>
            <a:ext cx="730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82480" y="567072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270240" y="4967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752560" y="4967280"/>
            <a:ext cx="2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469880" y="5450040"/>
                <a:ext cx="822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8466120" y="463392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3830760" y="5443560"/>
                <a:ext cx="479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7261200" y="3652920"/>
                <a:ext cx="5018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3736800" y="5418000"/>
            <a:ext cx="64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623960" y="5421240"/>
            <a:ext cx="72072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08720" y="2933640"/>
            <a:ext cx="302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ределение линей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мещения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72120" y="3537000"/>
            <a:ext cx="2158920" cy="53964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101080" y="4076640"/>
            <a:ext cx="25236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101080" y="407664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856640" y="348768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128000" y="34894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937120" y="3741840"/>
            <a:ext cx="28764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940360" y="3741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80040" y="3546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033960" y="348948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037200" y="369396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670800" y="3801960"/>
            <a:ext cx="28728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673680" y="38019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13720" y="3606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767640" y="35496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770520" y="37544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205840" y="368784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962840" y="3562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273520" y="3716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16200000">
            <a:off x="8447400" y="3732840"/>
            <a:ext cx="28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8282160" y="3405240"/>
                <a:ext cx="5252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H="1">
            <a:off x="8594280" y="3716280"/>
            <a:ext cx="17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8377200" y="407052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8666280" y="4030200"/>
            <a:ext cx="7128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 flipV="1">
            <a:off x="8672040" y="3688920"/>
            <a:ext cx="71640" cy="7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8699400" y="3720600"/>
            <a:ext cx="0" cy="34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148520" y="3621240"/>
            <a:ext cx="720720" cy="43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8231040" y="4487760"/>
            <a:ext cx="292320" cy="335160"/>
          </a:xfrm>
          <a:custGeom>
            <a:avLst/>
            <a:gdLst/>
            <a:ahLst/>
            <a:rect l="l" t="t" r="r" b="b"/>
            <a:pathLst>
              <a:path w="184" h="211">
                <a:moveTo>
                  <a:pt x="0" y="0"/>
                </a:moveTo>
                <a:lnTo>
                  <a:pt x="184" y="211"/>
                </a:lnTo>
                <a:lnTo>
                  <a:pt x="3" y="211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070680" y="4289400"/>
            <a:ext cx="2158920" cy="539640"/>
          </a:xfrm>
          <a:custGeom>
            <a:avLst/>
            <a:gdLst/>
            <a:ahLst/>
            <a:rect l="l" t="t" r="r" b="b"/>
            <a:pathLst>
              <a:path w="2132" h="590">
                <a:moveTo>
                  <a:pt x="0" y="0"/>
                </a:moveTo>
                <a:lnTo>
                  <a:pt x="2132" y="0"/>
                </a:lnTo>
                <a:lnTo>
                  <a:pt x="2132" y="59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7283520" y="4390920"/>
                <a:ext cx="479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7189920" y="4365720"/>
            <a:ext cx="64764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138480" y="523728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8298000" y="4700520"/>
            <a:ext cx="42840" cy="42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6286680" y="4900680"/>
                <a:ext cx="254952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,125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6176880" y="44578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5533920" y="1913040"/>
                <a:ext cx="28879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/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;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5491080" y="1960560"/>
            <a:ext cx="2952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26920" y="1271520"/>
            <a:ext cx="3440160" cy="862200"/>
          </a:xfrm>
          <a:custGeom>
            <a:avLst/>
            <a:gdLst/>
            <a:ahLst/>
            <a:rect l="l" t="t" r="r" b="b"/>
            <a:pathLst>
              <a:path w="2167" h="543">
                <a:moveTo>
                  <a:pt x="0" y="44"/>
                </a:moveTo>
                <a:cubicBezTo>
                  <a:pt x="12" y="43"/>
                  <a:pt x="39" y="42"/>
                  <a:pt x="75" y="39"/>
                </a:cubicBezTo>
                <a:cubicBezTo>
                  <a:pt x="111" y="36"/>
                  <a:pt x="164" y="28"/>
                  <a:pt x="215" y="23"/>
                </a:cubicBezTo>
                <a:cubicBezTo>
                  <a:pt x="266" y="18"/>
                  <a:pt x="326" y="10"/>
                  <a:pt x="383" y="7"/>
                </a:cubicBezTo>
                <a:cubicBezTo>
                  <a:pt x="440" y="4"/>
                  <a:pt x="498" y="0"/>
                  <a:pt x="559" y="7"/>
                </a:cubicBezTo>
                <a:cubicBezTo>
                  <a:pt x="620" y="14"/>
                  <a:pt x="687" y="28"/>
                  <a:pt x="751" y="47"/>
                </a:cubicBezTo>
                <a:cubicBezTo>
                  <a:pt x="815" y="66"/>
                  <a:pt x="888" y="98"/>
                  <a:pt x="943" y="123"/>
                </a:cubicBezTo>
                <a:cubicBezTo>
                  <a:pt x="998" y="148"/>
                  <a:pt x="1011" y="155"/>
                  <a:pt x="1083" y="195"/>
                </a:cubicBezTo>
                <a:cubicBezTo>
                  <a:pt x="1171" y="231"/>
                  <a:pt x="1216" y="242"/>
                  <a:pt x="1275" y="255"/>
                </a:cubicBezTo>
                <a:cubicBezTo>
                  <a:pt x="1334" y="268"/>
                  <a:pt x="1383" y="274"/>
                  <a:pt x="1439" y="275"/>
                </a:cubicBezTo>
                <a:cubicBezTo>
                  <a:pt x="1495" y="276"/>
                  <a:pt x="1553" y="274"/>
                  <a:pt x="1611" y="263"/>
                </a:cubicBezTo>
                <a:cubicBezTo>
                  <a:pt x="1669" y="252"/>
                  <a:pt x="1707" y="239"/>
                  <a:pt x="1787" y="207"/>
                </a:cubicBezTo>
                <a:cubicBezTo>
                  <a:pt x="1859" y="163"/>
                  <a:pt x="1909" y="135"/>
                  <a:pt x="1955" y="111"/>
                </a:cubicBezTo>
                <a:cubicBezTo>
                  <a:pt x="2001" y="87"/>
                  <a:pt x="2037" y="74"/>
                  <a:pt x="2067" y="63"/>
                </a:cubicBezTo>
                <a:cubicBezTo>
                  <a:pt x="2097" y="52"/>
                  <a:pt x="2117" y="33"/>
                  <a:pt x="2132" y="44"/>
                </a:cubicBezTo>
                <a:cubicBezTo>
                  <a:pt x="2155" y="107"/>
                  <a:pt x="2153" y="97"/>
                  <a:pt x="2159" y="127"/>
                </a:cubicBezTo>
                <a:cubicBezTo>
                  <a:pt x="2165" y="157"/>
                  <a:pt x="2167" y="196"/>
                  <a:pt x="2167" y="227"/>
                </a:cubicBezTo>
                <a:cubicBezTo>
                  <a:pt x="2167" y="258"/>
                  <a:pt x="2163" y="281"/>
                  <a:pt x="2159" y="311"/>
                </a:cubicBezTo>
                <a:cubicBezTo>
                  <a:pt x="2155" y="341"/>
                  <a:pt x="2147" y="375"/>
                  <a:pt x="2143" y="407"/>
                </a:cubicBezTo>
                <a:cubicBezTo>
                  <a:pt x="2139" y="439"/>
                  <a:pt x="2137" y="480"/>
                  <a:pt x="2135" y="503"/>
                </a:cubicBezTo>
                <a:cubicBezTo>
                  <a:pt x="2133" y="526"/>
                  <a:pt x="2133" y="535"/>
                  <a:pt x="2132" y="543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0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9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4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6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8500"/>
                            </p:stCondLst>
                            <p:childTnLst>
                              <p:par>
                                <p:cTn id="2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2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3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2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3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5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5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75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8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0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3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6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9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5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38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4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47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3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2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6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7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7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1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4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0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3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6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0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08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1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2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30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3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5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5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8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7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7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8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6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9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6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0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4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7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2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35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2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4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Какой метод рационален для определения перемещений линейно деформируе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тически неопределимых систем от различных воздействий  (силовых, темпер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рных, кинематических)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Универсальная формула для вычисления перемещений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от комбиниров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й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2 )</a:t>
            </a:r>
            <a:r>
              <a:rPr b="1" lang="ru-RU" sz="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Каковы альтернативные варианты формул для перемещений СНС от силовых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, 4 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мпературных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7, 8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и  кинематических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0, 11 )</a:t>
            </a:r>
            <a:r>
              <a:rPr b="1" lang="ru-RU" sz="1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й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На чём основаны альтернативные варианты формул и какие упрощения в расчё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мещений СНС даёт их использование?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3 )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5 )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9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Сколько возможных вариантов формул для определения перемещений метод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ксвелл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ра существует в случаях силовых, температурных, кинема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ействий? 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4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8 ) 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1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 рекомендуется выбирать вспомогательные статически определимые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получения наибольшего упрощения вычисления перемещений СНС? </a:t>
            </a:r>
            <a:r>
              <a:rPr b="1" lang="ru-RU" sz="1600" spc="-1" strike="noStrike">
                <a:solidFill>
                  <a:srgbClr val="009900"/>
                </a:solidFill>
                <a:latin typeface="Times New Roman"/>
              </a:rPr>
              <a:t>( 12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0840" y="5013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71440" y="969840"/>
                <a:ext cx="8601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547640" y="608040"/>
            <a:ext cx="59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ниверсальная формула Максвелл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63760" y="2523960"/>
            <a:ext cx="2016000" cy="1368720"/>
          </a:xfrm>
          <a:custGeom>
            <a:avLst/>
            <a:gdLst/>
            <a:ahLst/>
            <a:rect l="l" t="t" r="r" b="b"/>
            <a:pathLst>
              <a:path w="1270" h="862">
                <a:moveTo>
                  <a:pt x="0" y="771"/>
                </a:moveTo>
                <a:lnTo>
                  <a:pt x="91" y="454"/>
                </a:lnTo>
                <a:lnTo>
                  <a:pt x="136" y="0"/>
                </a:lnTo>
                <a:lnTo>
                  <a:pt x="544" y="136"/>
                </a:lnTo>
                <a:lnTo>
                  <a:pt x="907" y="136"/>
                </a:lnTo>
                <a:lnTo>
                  <a:pt x="1225" y="0"/>
                </a:lnTo>
                <a:lnTo>
                  <a:pt x="1270" y="408"/>
                </a:lnTo>
                <a:lnTo>
                  <a:pt x="1225" y="862"/>
                </a:lnTo>
                <a:lnTo>
                  <a:pt x="91" y="862"/>
                </a:lnTo>
                <a:lnTo>
                  <a:pt x="0" y="77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84200" y="2484360"/>
            <a:ext cx="1800360" cy="136836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0" y="862"/>
                </a:moveTo>
                <a:lnTo>
                  <a:pt x="0" y="0"/>
                </a:lnTo>
                <a:lnTo>
                  <a:pt x="1134" y="0"/>
                </a:lnTo>
                <a:lnTo>
                  <a:pt x="1134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41280" y="3857760"/>
            <a:ext cx="287640" cy="7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1640" y="3857760"/>
            <a:ext cx="287280" cy="7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41280" y="385776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1640" y="38577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35240" y="38052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114800"/>
            <a:ext cx="28728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1115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70320" y="40593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84560" y="3851280"/>
            <a:ext cx="198360" cy="21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16080" y="29224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84200" y="2478240"/>
            <a:ext cx="2162160" cy="1574640"/>
          </a:xfrm>
          <a:custGeom>
            <a:avLst/>
            <a:gdLst/>
            <a:ahLst/>
            <a:rect l="l" t="t" r="r" b="b"/>
            <a:pathLst>
              <a:path w="1362" h="992">
                <a:moveTo>
                  <a:pt x="0" y="869"/>
                </a:moveTo>
                <a:cubicBezTo>
                  <a:pt x="1" y="852"/>
                  <a:pt x="1" y="803"/>
                  <a:pt x="7" y="764"/>
                </a:cubicBezTo>
                <a:cubicBezTo>
                  <a:pt x="13" y="725"/>
                  <a:pt x="24" y="689"/>
                  <a:pt x="39" y="636"/>
                </a:cubicBezTo>
                <a:cubicBezTo>
                  <a:pt x="54" y="583"/>
                  <a:pt x="85" y="500"/>
                  <a:pt x="99" y="444"/>
                </a:cubicBezTo>
                <a:cubicBezTo>
                  <a:pt x="113" y="388"/>
                  <a:pt x="117" y="352"/>
                  <a:pt x="123" y="300"/>
                </a:cubicBezTo>
                <a:cubicBezTo>
                  <a:pt x="129" y="248"/>
                  <a:pt x="128" y="181"/>
                  <a:pt x="135" y="132"/>
                </a:cubicBezTo>
                <a:cubicBezTo>
                  <a:pt x="142" y="83"/>
                  <a:pt x="147" y="60"/>
                  <a:pt x="163" y="4"/>
                </a:cubicBezTo>
                <a:cubicBezTo>
                  <a:pt x="243" y="20"/>
                  <a:pt x="242" y="20"/>
                  <a:pt x="335" y="44"/>
                </a:cubicBezTo>
                <a:cubicBezTo>
                  <a:pt x="390" y="60"/>
                  <a:pt x="438" y="84"/>
                  <a:pt x="491" y="100"/>
                </a:cubicBezTo>
                <a:cubicBezTo>
                  <a:pt x="544" y="116"/>
                  <a:pt x="598" y="133"/>
                  <a:pt x="655" y="140"/>
                </a:cubicBezTo>
                <a:cubicBezTo>
                  <a:pt x="712" y="147"/>
                  <a:pt x="778" y="148"/>
                  <a:pt x="835" y="144"/>
                </a:cubicBezTo>
                <a:cubicBezTo>
                  <a:pt x="892" y="140"/>
                  <a:pt x="941" y="131"/>
                  <a:pt x="995" y="116"/>
                </a:cubicBezTo>
                <a:cubicBezTo>
                  <a:pt x="1049" y="101"/>
                  <a:pt x="1113" y="71"/>
                  <a:pt x="1163" y="52"/>
                </a:cubicBezTo>
                <a:cubicBezTo>
                  <a:pt x="1213" y="33"/>
                  <a:pt x="1227" y="16"/>
                  <a:pt x="1295" y="0"/>
                </a:cubicBezTo>
                <a:cubicBezTo>
                  <a:pt x="1331" y="80"/>
                  <a:pt x="1341" y="150"/>
                  <a:pt x="1351" y="244"/>
                </a:cubicBezTo>
                <a:cubicBezTo>
                  <a:pt x="1362" y="322"/>
                  <a:pt x="1362" y="381"/>
                  <a:pt x="1359" y="468"/>
                </a:cubicBezTo>
                <a:cubicBezTo>
                  <a:pt x="1356" y="555"/>
                  <a:pt x="1344" y="681"/>
                  <a:pt x="1331" y="768"/>
                </a:cubicBezTo>
                <a:cubicBezTo>
                  <a:pt x="1318" y="855"/>
                  <a:pt x="1293" y="945"/>
                  <a:pt x="1283" y="9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245592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7440" y="268452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20920" y="2505240"/>
            <a:ext cx="252360" cy="201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85840" y="2271600"/>
            <a:ext cx="287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96960" y="2687760"/>
            <a:ext cx="360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39800" y="2249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81360" y="23144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12840" y="24177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9080" y="24782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77960" y="247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87480" y="2465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09960" y="24051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25960" y="2333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33680" y="2239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8960" y="3905280"/>
            <a:ext cx="503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63640" y="2727360"/>
            <a:ext cx="43200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2760" y="2481120"/>
            <a:ext cx="1800000" cy="136872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0" y="862"/>
                </a:moveTo>
                <a:lnTo>
                  <a:pt x="0" y="0"/>
                </a:lnTo>
                <a:lnTo>
                  <a:pt x="1134" y="0"/>
                </a:lnTo>
                <a:lnTo>
                  <a:pt x="1134" y="862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914280" y="422280"/>
            <a:ext cx="179280" cy="2881080"/>
          </a:xfrm>
          <a:custGeom>
            <a:avLst/>
            <a:gdLst>
              <a:gd name="textAreaLeft" fmla="*/ 0 w 179280"/>
              <a:gd name="textAreaRight" fmla="*/ 64800 w 17928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6348960" y="1088280"/>
            <a:ext cx="142920" cy="1512720"/>
          </a:xfrm>
          <a:custGeom>
            <a:avLst/>
            <a:gdLst>
              <a:gd name="textAreaLeft" fmla="*/ 0 w 142920"/>
              <a:gd name="textAreaRight" fmla="*/ 51480 w 1429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7963560" y="1232640"/>
            <a:ext cx="142920" cy="1224000"/>
          </a:xfrm>
          <a:custGeom>
            <a:avLst/>
            <a:gdLst>
              <a:gd name="textAreaLeft" fmla="*/ 0 w 142920"/>
              <a:gd name="textAreaRight" fmla="*/ 514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1947960"/>
            <a:ext cx="503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2040" y="1909800"/>
            <a:ext cx="503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59880" y="1909800"/>
            <a:ext cx="502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85880" y="3030480"/>
            <a:ext cx="14400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Дей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состояние С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43080" y="3467160"/>
            <a:ext cx="432000" cy="43164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404352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85920" y="404352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04352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 rot="16200000">
            <a:off x="2280240" y="3367080"/>
            <a:ext cx="144360" cy="122544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76560" y="35290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40957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076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3800" y="40719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2487600"/>
            <a:ext cx="611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5600" y="2727360"/>
            <a:ext cx="1224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2478240"/>
            <a:ext cx="0" cy="252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60920" y="2471760"/>
            <a:ext cx="81756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317988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21160" y="33894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С</a:t>
            </a: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П</a:t>
            </a: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2476440"/>
            <a:ext cx="295560" cy="1368360"/>
          </a:xfrm>
          <a:custGeom>
            <a:avLst/>
            <a:gdLst/>
            <a:ahLst/>
            <a:rect l="l" t="t" r="r" b="b"/>
            <a:pathLst>
              <a:path w="186" h="862">
                <a:moveTo>
                  <a:pt x="136" y="862"/>
                </a:moveTo>
                <a:lnTo>
                  <a:pt x="0" y="862"/>
                </a:lnTo>
                <a:lnTo>
                  <a:pt x="186" y="292"/>
                </a:lnTo>
                <a:lnTo>
                  <a:pt x="90" y="0"/>
                </a:lnTo>
                <a:lnTo>
                  <a:pt x="136" y="1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2478240"/>
            <a:ext cx="358560" cy="1349280"/>
          </a:xfrm>
          <a:custGeom>
            <a:avLst/>
            <a:gdLst/>
            <a:ahLst/>
            <a:rect l="l" t="t" r="r" b="b"/>
            <a:pathLst>
              <a:path w="226" h="862">
                <a:moveTo>
                  <a:pt x="0" y="0"/>
                </a:moveTo>
                <a:lnTo>
                  <a:pt x="226" y="0"/>
                </a:lnTo>
                <a:lnTo>
                  <a:pt x="0" y="862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89480" y="2133720"/>
            <a:ext cx="1797120" cy="744480"/>
          </a:xfrm>
          <a:custGeom>
            <a:avLst/>
            <a:gdLst/>
            <a:ahLst/>
            <a:rect l="l" t="t" r="r" b="b"/>
            <a:pathLst>
              <a:path w="1132" h="469">
                <a:moveTo>
                  <a:pt x="2" y="205"/>
                </a:moveTo>
                <a:cubicBezTo>
                  <a:pt x="2" y="198"/>
                  <a:pt x="2" y="176"/>
                  <a:pt x="0" y="160"/>
                </a:cubicBezTo>
                <a:cubicBezTo>
                  <a:pt x="34" y="196"/>
                  <a:pt x="42" y="211"/>
                  <a:pt x="92" y="250"/>
                </a:cubicBezTo>
                <a:cubicBezTo>
                  <a:pt x="141" y="289"/>
                  <a:pt x="223" y="357"/>
                  <a:pt x="292" y="392"/>
                </a:cubicBezTo>
                <a:cubicBezTo>
                  <a:pt x="361" y="427"/>
                  <a:pt x="432" y="451"/>
                  <a:pt x="504" y="460"/>
                </a:cubicBezTo>
                <a:cubicBezTo>
                  <a:pt x="576" y="469"/>
                  <a:pt x="657" y="465"/>
                  <a:pt x="724" y="444"/>
                </a:cubicBezTo>
                <a:cubicBezTo>
                  <a:pt x="791" y="423"/>
                  <a:pt x="852" y="379"/>
                  <a:pt x="904" y="336"/>
                </a:cubicBezTo>
                <a:cubicBezTo>
                  <a:pt x="956" y="293"/>
                  <a:pt x="998" y="244"/>
                  <a:pt x="1036" y="188"/>
                </a:cubicBezTo>
                <a:cubicBezTo>
                  <a:pt x="1074" y="132"/>
                  <a:pt x="1096" y="92"/>
                  <a:pt x="1132" y="0"/>
                </a:cubicBezTo>
                <a:cubicBezTo>
                  <a:pt x="1132" y="108"/>
                  <a:pt x="1132" y="174"/>
                  <a:pt x="1132" y="220"/>
                </a:cubicBez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2478240"/>
            <a:ext cx="1800360" cy="136836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0" y="862"/>
                </a:moveTo>
                <a:lnTo>
                  <a:pt x="0" y="0"/>
                </a:lnTo>
                <a:lnTo>
                  <a:pt x="1134" y="0"/>
                </a:lnTo>
                <a:lnTo>
                  <a:pt x="1134" y="8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3141720"/>
            <a:ext cx="576360" cy="5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21360" y="3189240"/>
            <a:ext cx="50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9200" y="6380280"/>
            <a:ext cx="2876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560" y="6380280"/>
            <a:ext cx="28728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9200" y="638028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560" y="6380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0680" y="5003640"/>
            <a:ext cx="1800360" cy="136872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0" y="862"/>
                </a:moveTo>
                <a:lnTo>
                  <a:pt x="0" y="0"/>
                </a:lnTo>
                <a:lnTo>
                  <a:pt x="1134" y="0"/>
                </a:lnTo>
                <a:lnTo>
                  <a:pt x="1134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43160" y="63277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73400" y="4973760"/>
            <a:ext cx="54000" cy="54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60640" y="4792680"/>
            <a:ext cx="287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97160" y="46004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86080" y="5238720"/>
            <a:ext cx="15840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спомога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единичное состояние С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5560" y="5886360"/>
            <a:ext cx="431640" cy="4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19320" y="594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78080" y="456264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51200" y="551664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5726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С</a:t>
            </a: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П</a:t>
            </a:r>
            <a:r>
              <a:rPr b="0" lang="ru-RU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en-US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97520" y="5006880"/>
            <a:ext cx="438120" cy="1366920"/>
          </a:xfrm>
          <a:custGeom>
            <a:avLst/>
            <a:gdLst/>
            <a:ahLst/>
            <a:rect l="l" t="t" r="r" b="b"/>
            <a:pathLst>
              <a:path w="276" h="850">
                <a:moveTo>
                  <a:pt x="186" y="849"/>
                </a:moveTo>
                <a:lnTo>
                  <a:pt x="276" y="850"/>
                </a:lnTo>
                <a:lnTo>
                  <a:pt x="0" y="2"/>
                </a:lnTo>
                <a:lnTo>
                  <a:pt x="18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5010120"/>
            <a:ext cx="412560" cy="1352520"/>
          </a:xfrm>
          <a:custGeom>
            <a:avLst/>
            <a:gdLst/>
            <a:ahLst/>
            <a:rect l="l" t="t" r="r" b="b"/>
            <a:pathLst>
              <a:path w="260" h="852">
                <a:moveTo>
                  <a:pt x="2" y="0"/>
                </a:moveTo>
                <a:lnTo>
                  <a:pt x="260" y="0"/>
                </a:lnTo>
                <a:lnTo>
                  <a:pt x="0" y="852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5676840"/>
            <a:ext cx="576360" cy="57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21360" y="5724360"/>
            <a:ext cx="50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92720" y="4600440"/>
            <a:ext cx="1803240" cy="844560"/>
          </a:xfrm>
          <a:custGeom>
            <a:avLst/>
            <a:gdLst/>
            <a:ahLst/>
            <a:rect l="l" t="t" r="r" b="b"/>
            <a:pathLst>
              <a:path w="1136" h="532">
                <a:moveTo>
                  <a:pt x="0" y="260"/>
                </a:moveTo>
                <a:lnTo>
                  <a:pt x="2" y="62"/>
                </a:lnTo>
                <a:lnTo>
                  <a:pt x="544" y="532"/>
                </a:lnTo>
                <a:lnTo>
                  <a:pt x="1136" y="0"/>
                </a:lnTo>
                <a:lnTo>
                  <a:pt x="1134" y="26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5013360"/>
            <a:ext cx="1800360" cy="136836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0" y="862"/>
                </a:moveTo>
                <a:lnTo>
                  <a:pt x="0" y="0"/>
                </a:lnTo>
                <a:lnTo>
                  <a:pt x="1134" y="0"/>
                </a:lnTo>
                <a:lnTo>
                  <a:pt x="1134" y="8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50068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613600">
            <a:off x="7112160" y="39337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8361200">
            <a:off x="7127640" y="46339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39040" y="4068720"/>
            <a:ext cx="151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ычисление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о форм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аксвелла–</a:t>
            </a:r>
            <a:r>
              <a:rPr b="1" lang="ru-RU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М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880" y="1635120"/>
                <a:ext cx="15591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1212840" y="60804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силовых воздействий (нагрузок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981000"/>
            <a:ext cx="36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1481040"/>
            <a:ext cx="3816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зад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узки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201760"/>
            <a:ext cx="85690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– усилия от заданной нагрузки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002280" y="2157480"/>
                <a:ext cx="1909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74720" y="2459160"/>
                <a:ext cx="380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06640" y="2806560"/>
                <a:ext cx="2503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156360" y="2806560"/>
                <a:ext cx="9558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851280" y="2827440"/>
            <a:ext cx="100800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78120" y="2808360"/>
                <a:ext cx="24606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 rot="5400000">
            <a:off x="4319640" y="276552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255840"/>
            <a:ext cx="396108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инематическая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зультатов расчёта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 единичное воздействие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3255840"/>
            <a:ext cx="36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738600"/>
            <a:ext cx="3816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т зад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грузки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94360" y="3679920"/>
                <a:ext cx="1074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347760" y="431496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Аналогично если                                 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87440" y="4330800"/>
                <a:ext cx="1805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716960" y="4653000"/>
                <a:ext cx="1209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697360" y="4724280"/>
            <a:ext cx="1008360" cy="35892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6165360" y="4662360"/>
            <a:ext cx="71640" cy="1008360"/>
          </a:xfrm>
          <a:custGeom>
            <a:avLst/>
            <a:gdLst>
              <a:gd name="textAreaLeft" fmla="*/ 0 w 71640"/>
              <a:gd name="textAreaRight" fmla="*/ 25920 w 71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2520" y="5153040"/>
            <a:ext cx="264312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кинематическая 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результатов расчёта С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на заданную нагрузку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057400" y="4289400"/>
                <a:ext cx="5707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т</m:t>
                            </m:r>
                          </m:sup>
                        </m:sSub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5148360" y="5264280"/>
            <a:ext cx="367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764320"/>
            <a:ext cx="3816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зада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узки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183280" y="5289480"/>
                <a:ext cx="982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187280" y="955800"/>
            <a:ext cx="381636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87280" y="2860560"/>
            <a:ext cx="3816360" cy="1309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4772160"/>
            <a:ext cx="3816360" cy="136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63520" y="896760"/>
                <a:ext cx="3942000" cy="8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84360" y="1773360"/>
                <a:ext cx="14367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406600" y="2865600"/>
                <a:ext cx="1733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57400" y="3273480"/>
                <a:ext cx="3943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611280" y="13287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2637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373480" y="4724280"/>
                <a:ext cx="19778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58840" y="5289480"/>
                <a:ext cx="3941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11280" y="521640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1212840" y="60804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силовых воздействий (нагрузок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131920"/>
            <a:ext cx="288108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5360" y="2548080"/>
            <a:ext cx="4275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 заданн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00" y="3995640"/>
            <a:ext cx="295272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5040" y="4430880"/>
            <a:ext cx="39607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en-US" sz="2000" spc="-1" strike="noStrike">
                <a:solidFill>
                  <a:srgbClr val="cc0000"/>
                </a:solidFill>
                <a:latin typeface="Arial Narrow"/>
              </a:rPr>
              <a:t>СО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от заданной нагруз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39760" y="4384800"/>
                <a:ext cx="10303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184320" y="5724360"/>
            <a:ext cx="367164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 Narrow"/>
              </a:rPr>
              <a:t>СО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2880" y="6126120"/>
            <a:ext cx="42498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 заданной нагруз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79360" y="5783400"/>
                <a:ext cx="982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 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826920" y="1400040"/>
            <a:ext cx="3745080" cy="81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3270240"/>
            <a:ext cx="3745080" cy="812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11080" y="4950000"/>
            <a:ext cx="3745080" cy="839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49160" y="1316160"/>
                <a:ext cx="38941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25400" y="3233880"/>
                <a:ext cx="3942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263520" y="150660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6120" y="341460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11360" y="4938840"/>
                <a:ext cx="3941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72880" y="511020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26828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1990800"/>
            <a:ext cx="28728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29440" y="1990800"/>
            <a:ext cx="28728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990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9440" y="199080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23040" y="193824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256068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3282840"/>
            <a:ext cx="28728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9440" y="3282840"/>
            <a:ext cx="28728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3282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9440" y="3282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3040" y="32306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378468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4506840"/>
            <a:ext cx="28728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9440" y="4506840"/>
            <a:ext cx="28728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8360" y="4506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45068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3040" y="44546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529740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6019920"/>
            <a:ext cx="28728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9440" y="6019920"/>
            <a:ext cx="28728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6019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9440" y="601992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3040" y="596736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5200" y="596736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26280" y="52484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146844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1640" y="1521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70640" y="3994200"/>
            <a:ext cx="50472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9720" y="40370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51640" y="277956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61000" y="28224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0000" y="5516640"/>
            <a:ext cx="50472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99080" y="55594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23000" y="1525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15080" y="2185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6000" y="215748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40435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15080" y="4930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489276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0208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1808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3408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5008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6572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72360" y="10890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0872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036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5636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62640" y="358452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48440" y="37418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26280" y="374184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093080" y="5300640"/>
            <a:ext cx="1079280" cy="290520"/>
          </a:xfrm>
          <a:custGeom>
            <a:avLst/>
            <a:gdLst/>
            <a:ahLst/>
            <a:rect l="l" t="t" r="r" b="b"/>
            <a:pathLst>
              <a:path w="680" h="183">
                <a:moveTo>
                  <a:pt x="0" y="0"/>
                </a:moveTo>
                <a:lnTo>
                  <a:pt x="344" y="183"/>
                </a:lnTo>
                <a:lnTo>
                  <a:pt x="680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93080" y="530064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720" y="4005360"/>
            <a:ext cx="360360" cy="503280"/>
          </a:xfrm>
          <a:custGeom>
            <a:avLst/>
            <a:gdLst/>
            <a:ahLst/>
            <a:rect l="l" t="t" r="r" b="b"/>
            <a:pathLst>
              <a:path w="227" h="317">
                <a:moveTo>
                  <a:pt x="227" y="317"/>
                </a:moveTo>
                <a:lnTo>
                  <a:pt x="0" y="317"/>
                </a:lnTo>
                <a:lnTo>
                  <a:pt x="227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3789360"/>
            <a:ext cx="1079280" cy="237960"/>
          </a:xfrm>
          <a:custGeom>
            <a:avLst/>
            <a:gdLst/>
            <a:ahLst/>
            <a:rect l="l" t="t" r="r" b="b"/>
            <a:pathLst>
              <a:path w="680" h="150">
                <a:moveTo>
                  <a:pt x="0" y="0"/>
                </a:moveTo>
                <a:cubicBezTo>
                  <a:pt x="45" y="34"/>
                  <a:pt x="93" y="68"/>
                  <a:pt x="136" y="91"/>
                </a:cubicBezTo>
                <a:cubicBezTo>
                  <a:pt x="179" y="114"/>
                  <a:pt x="219" y="127"/>
                  <a:pt x="256" y="137"/>
                </a:cubicBezTo>
                <a:cubicBezTo>
                  <a:pt x="293" y="147"/>
                  <a:pt x="326" y="150"/>
                  <a:pt x="360" y="149"/>
                </a:cubicBezTo>
                <a:cubicBezTo>
                  <a:pt x="394" y="148"/>
                  <a:pt x="426" y="144"/>
                  <a:pt x="460" y="133"/>
                </a:cubicBezTo>
                <a:cubicBezTo>
                  <a:pt x="494" y="122"/>
                  <a:pt x="527" y="107"/>
                  <a:pt x="564" y="85"/>
                </a:cubicBezTo>
                <a:cubicBezTo>
                  <a:pt x="601" y="63"/>
                  <a:pt x="656" y="18"/>
                  <a:pt x="680" y="0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3080" y="378792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1100160"/>
            <a:ext cx="1085760" cy="322200"/>
          </a:xfrm>
          <a:custGeom>
            <a:avLst/>
            <a:gdLst/>
            <a:ahLst/>
            <a:rect l="l" t="t" r="r" b="b"/>
            <a:pathLst>
              <a:path w="684" h="203">
                <a:moveTo>
                  <a:pt x="0" y="107"/>
                </a:moveTo>
                <a:cubicBezTo>
                  <a:pt x="0" y="100"/>
                  <a:pt x="0" y="96"/>
                  <a:pt x="0" y="67"/>
                </a:cubicBezTo>
                <a:cubicBezTo>
                  <a:pt x="42" y="93"/>
                  <a:pt x="91" y="129"/>
                  <a:pt x="132" y="150"/>
                </a:cubicBezTo>
                <a:cubicBezTo>
                  <a:pt x="173" y="171"/>
                  <a:pt x="207" y="187"/>
                  <a:pt x="246" y="195"/>
                </a:cubicBezTo>
                <a:cubicBezTo>
                  <a:pt x="285" y="203"/>
                  <a:pt x="328" y="203"/>
                  <a:pt x="364" y="199"/>
                </a:cubicBezTo>
                <a:cubicBezTo>
                  <a:pt x="400" y="195"/>
                  <a:pt x="426" y="187"/>
                  <a:pt x="460" y="171"/>
                </a:cubicBezTo>
                <a:cubicBezTo>
                  <a:pt x="494" y="155"/>
                  <a:pt x="530" y="133"/>
                  <a:pt x="567" y="105"/>
                </a:cubicBezTo>
                <a:cubicBezTo>
                  <a:pt x="604" y="77"/>
                  <a:pt x="651" y="30"/>
                  <a:pt x="684" y="0"/>
                </a:cubicBezTo>
                <a:cubicBezTo>
                  <a:pt x="684" y="51"/>
                  <a:pt x="684" y="85"/>
                  <a:pt x="684" y="107"/>
                </a:cubicBez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53400" y="1271520"/>
            <a:ext cx="185760" cy="711360"/>
          </a:xfrm>
          <a:custGeom>
            <a:avLst/>
            <a:gdLst/>
            <a:ahLst/>
            <a:rect l="l" t="t" r="r" b="b"/>
            <a:pathLst>
              <a:path w="117" h="448">
                <a:moveTo>
                  <a:pt x="91" y="448"/>
                </a:moveTo>
                <a:lnTo>
                  <a:pt x="0" y="448"/>
                </a:lnTo>
                <a:lnTo>
                  <a:pt x="117" y="156"/>
                </a:lnTo>
                <a:lnTo>
                  <a:pt x="54" y="0"/>
                </a:lnTo>
                <a:lnTo>
                  <a:pt x="91" y="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72360" y="1266840"/>
            <a:ext cx="166680" cy="722160"/>
          </a:xfrm>
          <a:custGeom>
            <a:avLst/>
            <a:gdLst/>
            <a:ahLst/>
            <a:rect l="l" t="t" r="r" b="b"/>
            <a:pathLst>
              <a:path w="105" h="455">
                <a:moveTo>
                  <a:pt x="0" y="1"/>
                </a:moveTo>
                <a:lnTo>
                  <a:pt x="105" y="0"/>
                </a:lnTo>
                <a:lnTo>
                  <a:pt x="0" y="455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93080" y="126828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72360" y="2562120"/>
            <a:ext cx="185760" cy="722520"/>
          </a:xfrm>
          <a:custGeom>
            <a:avLst/>
            <a:gdLst/>
            <a:ahLst/>
            <a:rect l="l" t="t" r="r" b="b"/>
            <a:pathLst>
              <a:path w="117" h="455">
                <a:moveTo>
                  <a:pt x="0" y="1"/>
                </a:moveTo>
                <a:lnTo>
                  <a:pt x="117" y="0"/>
                </a:lnTo>
                <a:lnTo>
                  <a:pt x="0" y="455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67440" y="2562120"/>
            <a:ext cx="181080" cy="719280"/>
          </a:xfrm>
          <a:custGeom>
            <a:avLst/>
            <a:gdLst/>
            <a:ahLst/>
            <a:rect l="l" t="t" r="r" b="b"/>
            <a:pathLst>
              <a:path w="114" h="453">
                <a:moveTo>
                  <a:pt x="78" y="0"/>
                </a:moveTo>
                <a:lnTo>
                  <a:pt x="0" y="0"/>
                </a:lnTo>
                <a:lnTo>
                  <a:pt x="114" y="453"/>
                </a:lnTo>
                <a:lnTo>
                  <a:pt x="75" y="453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93080" y="2386080"/>
            <a:ext cx="1079280" cy="395280"/>
          </a:xfrm>
          <a:custGeom>
            <a:avLst/>
            <a:gdLst/>
            <a:ahLst/>
            <a:rect l="l" t="t" r="r" b="b"/>
            <a:pathLst>
              <a:path w="680" h="249">
                <a:moveTo>
                  <a:pt x="0" y="113"/>
                </a:moveTo>
                <a:lnTo>
                  <a:pt x="0" y="22"/>
                </a:lnTo>
                <a:lnTo>
                  <a:pt x="362" y="249"/>
                </a:lnTo>
                <a:lnTo>
                  <a:pt x="680" y="0"/>
                </a:lnTo>
                <a:lnTo>
                  <a:pt x="680" y="113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93080" y="256392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67640" y="2565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43880" y="5300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61200" y="1484280"/>
            <a:ext cx="75420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9440" y="2809800"/>
            <a:ext cx="468360" cy="468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9720" y="1503360"/>
            <a:ext cx="468360" cy="468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70920" y="2809800"/>
            <a:ext cx="75384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7326360" y="5653080"/>
                <a:ext cx="6397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399440" y="5610240"/>
            <a:ext cx="468360" cy="468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315200" y="4138560"/>
                <a:ext cx="68580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400880" y="4086360"/>
            <a:ext cx="468360" cy="46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35880" y="1600200"/>
            <a:ext cx="360360" cy="1324080"/>
          </a:xfrm>
          <a:custGeom>
            <a:avLst/>
            <a:gdLst/>
            <a:ahLst/>
            <a:rect l="l" t="t" r="r" b="b"/>
            <a:pathLst>
              <a:path w="145" h="862">
                <a:moveTo>
                  <a:pt x="145" y="0"/>
                </a:moveTo>
                <a:cubicBezTo>
                  <a:pt x="111" y="19"/>
                  <a:pt x="77" y="38"/>
                  <a:pt x="54" y="91"/>
                </a:cubicBezTo>
                <a:cubicBezTo>
                  <a:pt x="31" y="144"/>
                  <a:pt x="16" y="243"/>
                  <a:pt x="8" y="318"/>
                </a:cubicBezTo>
                <a:cubicBezTo>
                  <a:pt x="0" y="393"/>
                  <a:pt x="0" y="469"/>
                  <a:pt x="8" y="544"/>
                </a:cubicBezTo>
                <a:cubicBezTo>
                  <a:pt x="16" y="619"/>
                  <a:pt x="31" y="718"/>
                  <a:pt x="54" y="771"/>
                </a:cubicBezTo>
                <a:cubicBezTo>
                  <a:pt x="77" y="824"/>
                  <a:pt x="130" y="847"/>
                  <a:pt x="145" y="862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85800">
            <a:off x="8275680" y="1601280"/>
            <a:ext cx="441360" cy="4107240"/>
          </a:xfrm>
          <a:custGeom>
            <a:avLst/>
            <a:gdLst/>
            <a:ahLst/>
            <a:rect l="l" t="t" r="r" b="b"/>
            <a:pathLst>
              <a:path w="145" h="862">
                <a:moveTo>
                  <a:pt x="145" y="0"/>
                </a:moveTo>
                <a:cubicBezTo>
                  <a:pt x="111" y="19"/>
                  <a:pt x="77" y="38"/>
                  <a:pt x="54" y="91"/>
                </a:cubicBezTo>
                <a:cubicBezTo>
                  <a:pt x="31" y="144"/>
                  <a:pt x="16" y="243"/>
                  <a:pt x="8" y="318"/>
                </a:cubicBezTo>
                <a:cubicBezTo>
                  <a:pt x="0" y="393"/>
                  <a:pt x="0" y="469"/>
                  <a:pt x="8" y="544"/>
                </a:cubicBezTo>
                <a:cubicBezTo>
                  <a:pt x="16" y="619"/>
                  <a:pt x="31" y="718"/>
                  <a:pt x="54" y="771"/>
                </a:cubicBezTo>
                <a:cubicBezTo>
                  <a:pt x="77" y="824"/>
                  <a:pt x="130" y="847"/>
                  <a:pt x="145" y="862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398400">
            <a:off x="6645240" y="3034800"/>
            <a:ext cx="289080" cy="1152720"/>
          </a:xfrm>
          <a:custGeom>
            <a:avLst/>
            <a:gdLst/>
            <a:ahLst/>
            <a:rect l="l" t="t" r="r" b="b"/>
            <a:pathLst>
              <a:path w="145" h="862">
                <a:moveTo>
                  <a:pt x="145" y="0"/>
                </a:moveTo>
                <a:cubicBezTo>
                  <a:pt x="111" y="19"/>
                  <a:pt x="77" y="38"/>
                  <a:pt x="54" y="91"/>
                </a:cubicBezTo>
                <a:cubicBezTo>
                  <a:pt x="31" y="144"/>
                  <a:pt x="16" y="243"/>
                  <a:pt x="8" y="318"/>
                </a:cubicBezTo>
                <a:cubicBezTo>
                  <a:pt x="0" y="393"/>
                  <a:pt x="0" y="469"/>
                  <a:pt x="8" y="544"/>
                </a:cubicBezTo>
                <a:cubicBezTo>
                  <a:pt x="16" y="619"/>
                  <a:pt x="31" y="718"/>
                  <a:pt x="54" y="771"/>
                </a:cubicBezTo>
                <a:cubicBezTo>
                  <a:pt x="77" y="824"/>
                  <a:pt x="130" y="847"/>
                  <a:pt x="145" y="862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204840" y="6080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тепловых воздействий (изменений температур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03560" y="961920"/>
            <a:ext cx="3024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97360" y="1301760"/>
            <a:ext cx="352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ные де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942840" y="985680"/>
                <a:ext cx="2662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389720" y="115416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70640" y="1297080"/>
            <a:ext cx="71640" cy="431640"/>
          </a:xfrm>
          <a:custGeom>
            <a:avLst/>
            <a:gdLst>
              <a:gd name="textAreaLeft" fmla="*/ 45720 w 71640"/>
              <a:gd name="textAreaRight" fmla="*/ 7200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155600" y="1789200"/>
                <a:ext cx="1462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114880" y="2120760"/>
                <a:ext cx="2247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3637080" y="1884240"/>
            <a:ext cx="525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 – усилия от единичного воздействия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017960" y="2414520"/>
                <a:ext cx="395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3022560" y="3586320"/>
            <a:ext cx="107964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200" y="3488400"/>
            <a:ext cx="71640" cy="107964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58920" y="3090960"/>
                <a:ext cx="63259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2581200" y="4065480"/>
            <a:ext cx="334656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  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е от за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зменения температуры в ОСМ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статически определимой системе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444840" y="3989520"/>
                <a:ext cx="35100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397480" y="4005360"/>
                <a:ext cx="1538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443640" y="3560760"/>
                <a:ext cx="2219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967280" y="3586320"/>
            <a:ext cx="107964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5470920" y="3488400"/>
            <a:ext cx="71640" cy="1079640"/>
          </a:xfrm>
          <a:custGeom>
            <a:avLst/>
            <a:gdLst>
              <a:gd name="textAreaLeft" fmla="*/ 0 w 71640"/>
              <a:gd name="textAreaRight" fmla="*/ 25920 w 71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4008600" y="3560760"/>
                <a:ext cx="2504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5940360" y="4124160"/>
            <a:ext cx="295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е от за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зменения 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ОСМС (в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ст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определимой системе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172360" y="3921120"/>
            <a:ext cx="201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583480" y="357336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11280" y="3979800"/>
                <a:ext cx="29653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24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200"/>
                            </p:stCondLst>
                            <p:childTnLst>
                              <p:par>
                                <p:cTn id="10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200"/>
                            </p:stCondLst>
                            <p:childTnLst>
                              <p:par>
                                <p:cTn id="10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0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204840" y="6080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тепловых воздействий (изменений температур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03560" y="961920"/>
            <a:ext cx="3024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97360" y="1301760"/>
            <a:ext cx="352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ные де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942840" y="985680"/>
                <a:ext cx="2662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7389720" y="115416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370640" y="1297080"/>
            <a:ext cx="71640" cy="431640"/>
          </a:xfrm>
          <a:custGeom>
            <a:avLst/>
            <a:gdLst>
              <a:gd name="textAreaLeft" fmla="*/ 45720 w 71640"/>
              <a:gd name="textAreaRight" fmla="*/ 7200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155600" y="1789200"/>
                <a:ext cx="1462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114880" y="2120760"/>
                <a:ext cx="2247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637080" y="1884240"/>
            <a:ext cx="525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 – усилия от единичного воздействия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7960" y="2414520"/>
                <a:ext cx="395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3022560" y="3586320"/>
            <a:ext cx="107964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58920" y="3090960"/>
                <a:ext cx="6325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,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43640" y="3560760"/>
                <a:ext cx="22194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4967280" y="3586320"/>
            <a:ext cx="107964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016520" y="3560760"/>
                <a:ext cx="2546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5942160" y="4124160"/>
            <a:ext cx="295092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перемещение от зад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изменения темп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ОСМС (в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ст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cc0000"/>
                </a:solidFill>
                <a:latin typeface="Arial Narrow"/>
              </a:rPr>
              <a:t>определимой системе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172360" y="3921120"/>
            <a:ext cx="201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83480" y="357336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11280" y="3979800"/>
                <a:ext cx="29653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174680" y="4449600"/>
            <a:ext cx="1008000" cy="35892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56000" y="4457880"/>
            <a:ext cx="792000" cy="35856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38520" y="4730760"/>
            <a:ext cx="43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1279440" y="4773600"/>
                <a:ext cx="77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84360" y="4124160"/>
                <a:ext cx="31842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3813120" y="44118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46080" y="5203800"/>
            <a:ext cx="949320" cy="358920"/>
          </a:xfrm>
          <a:prstGeom prst="rect">
            <a:avLst/>
          </a:prstGeom>
          <a:solidFill>
            <a:srgbClr val="fcb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54200" y="5165640"/>
                <a:ext cx="26334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200240" y="5624640"/>
            <a:ext cx="22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t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i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ext,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402000" y="5172120"/>
                <a:ext cx="37749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971640" y="3429000"/>
                <a:ext cx="4105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 rot="5400000">
            <a:off x="1396080" y="5255280"/>
            <a:ext cx="71640" cy="790560"/>
          </a:xfrm>
          <a:custGeom>
            <a:avLst/>
            <a:gdLst>
              <a:gd name="textAreaLeft" fmla="*/ 0 w 71640"/>
              <a:gd name="textAreaRight" fmla="*/ 25920 w 716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204840" y="6080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тепловых воздействий (изменений температур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03560" y="961920"/>
            <a:ext cx="3024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97360" y="1301760"/>
            <a:ext cx="352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ные де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389720" y="115416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70640" y="1297080"/>
            <a:ext cx="71640" cy="431640"/>
          </a:xfrm>
          <a:custGeom>
            <a:avLst/>
            <a:gdLst>
              <a:gd name="textAreaLeft" fmla="*/ 45720 w 71640"/>
              <a:gd name="textAreaRight" fmla="*/ 7200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114880" y="2120760"/>
                <a:ext cx="2247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3637080" y="1884240"/>
            <a:ext cx="525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 – усилия от единичного воздействия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017960" y="2414520"/>
                <a:ext cx="395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5307120" y="4521240"/>
            <a:ext cx="21621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0000" y="3417840"/>
            <a:ext cx="431964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1800" y="141300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00" y="37893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2960" y="1014480"/>
            <a:ext cx="25207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42840" y="985680"/>
                <a:ext cx="2662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157400" y="1789200"/>
                <a:ext cx="1460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971640" y="3430440"/>
                <a:ext cx="41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830160" y="3778200"/>
                <a:ext cx="4111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827600" y="3813120"/>
                <a:ext cx="29862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,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0720" y="4554360"/>
                <a:ext cx="807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 rot="5400000">
            <a:off x="2859480" y="3193200"/>
            <a:ext cx="179280" cy="2879640"/>
          </a:xfrm>
          <a:custGeom>
            <a:avLst/>
            <a:gdLst>
              <a:gd name="textAreaLeft" fmla="*/ 0 w 179280"/>
              <a:gd name="textAreaRight" fmla="*/ 64800 w 179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 rot="16200000">
            <a:off x="1875960" y="3006000"/>
            <a:ext cx="133560" cy="863640"/>
          </a:xfrm>
          <a:custGeom>
            <a:avLst/>
            <a:gdLst>
              <a:gd name="textAreaLeft" fmla="*/ 0 w 133560"/>
              <a:gd name="textAreaRight" fmla="*/ 48240 w 133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547640" y="301788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523960" y="466560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051520" y="3260880"/>
                <a:ext cx="67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5662440" y="3343320"/>
            <a:ext cx="323064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упругих де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ов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34440" y="4064040"/>
            <a:ext cx="1609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темпер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урных д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7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2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204840" y="608040"/>
            <a:ext cx="87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тепловых воздействий (изменений температуры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03560" y="961920"/>
            <a:ext cx="302436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97360" y="1301760"/>
            <a:ext cx="352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,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емпературные деформ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89720" y="1154160"/>
            <a:ext cx="1575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70640" y="1297080"/>
            <a:ext cx="71640" cy="431640"/>
          </a:xfrm>
          <a:custGeom>
            <a:avLst/>
            <a:gdLst>
              <a:gd name="textAreaLeft" fmla="*/ 45720 w 71640"/>
              <a:gd name="textAreaRight" fmla="*/ 72000 w 7164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00000" y="3417840"/>
            <a:ext cx="4319640" cy="1224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1800" y="1413000"/>
            <a:ext cx="5050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9200" y="3789360"/>
            <a:ext cx="504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12960" y="1014480"/>
            <a:ext cx="252072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942840" y="985680"/>
                <a:ext cx="26622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1155600" y="1789200"/>
                <a:ext cx="1462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971640" y="3430440"/>
                <a:ext cx="41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6012000" y="236052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3083040"/>
            <a:ext cx="28728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48360" y="3083040"/>
            <a:ext cx="28764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308304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48360" y="3083040"/>
            <a:ext cx="2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42320" y="303048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70560" y="257976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80280" y="26128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34000" y="19861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15280" y="1957320"/>
            <a:ext cx="73944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10760" y="2362320"/>
            <a:ext cx="185400" cy="722160"/>
          </a:xfrm>
          <a:custGeom>
            <a:avLst/>
            <a:gdLst/>
            <a:ahLst/>
            <a:rect l="l" t="t" r="r" b="b"/>
            <a:pathLst>
              <a:path w="117" h="455">
                <a:moveTo>
                  <a:pt x="0" y="1"/>
                </a:moveTo>
                <a:lnTo>
                  <a:pt x="117" y="0"/>
                </a:lnTo>
                <a:lnTo>
                  <a:pt x="0" y="45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05840" y="2362320"/>
            <a:ext cx="180720" cy="718920"/>
          </a:xfrm>
          <a:custGeom>
            <a:avLst/>
            <a:gdLst/>
            <a:ahLst/>
            <a:rect l="l" t="t" r="r" b="b"/>
            <a:pathLst>
              <a:path w="114" h="453">
                <a:moveTo>
                  <a:pt x="78" y="0"/>
                </a:moveTo>
                <a:lnTo>
                  <a:pt x="0" y="0"/>
                </a:lnTo>
                <a:lnTo>
                  <a:pt x="114" y="453"/>
                </a:lnTo>
                <a:lnTo>
                  <a:pt x="75" y="45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31120" y="2185920"/>
            <a:ext cx="1079640" cy="395280"/>
          </a:xfrm>
          <a:custGeom>
            <a:avLst/>
            <a:gdLst/>
            <a:ahLst/>
            <a:rect l="l" t="t" r="r" b="b"/>
            <a:pathLst>
              <a:path w="680" h="249">
                <a:moveTo>
                  <a:pt x="0" y="113"/>
                </a:moveTo>
                <a:lnTo>
                  <a:pt x="0" y="22"/>
                </a:lnTo>
                <a:lnTo>
                  <a:pt x="362" y="249"/>
                </a:lnTo>
                <a:lnTo>
                  <a:pt x="680" y="0"/>
                </a:lnTo>
                <a:lnTo>
                  <a:pt x="680" y="113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431120" y="236376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05680" y="2365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737480" y="2610000"/>
            <a:ext cx="468360" cy="46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164120" y="5413320"/>
            <a:ext cx="185760" cy="722520"/>
          </a:xfrm>
          <a:custGeom>
            <a:avLst/>
            <a:gdLst/>
            <a:ahLst/>
            <a:rect l="l" t="t" r="r" b="b"/>
            <a:pathLst>
              <a:path w="117" h="455">
                <a:moveTo>
                  <a:pt x="0" y="1"/>
                </a:moveTo>
                <a:lnTo>
                  <a:pt x="117" y="0"/>
                </a:lnTo>
                <a:lnTo>
                  <a:pt x="0" y="455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59200" y="5413320"/>
            <a:ext cx="180720" cy="719280"/>
          </a:xfrm>
          <a:custGeom>
            <a:avLst/>
            <a:gdLst/>
            <a:ahLst/>
            <a:rect l="l" t="t" r="r" b="b"/>
            <a:pathLst>
              <a:path w="114" h="453">
                <a:moveTo>
                  <a:pt x="78" y="0"/>
                </a:moveTo>
                <a:lnTo>
                  <a:pt x="0" y="0"/>
                </a:lnTo>
                <a:lnTo>
                  <a:pt x="114" y="453"/>
                </a:lnTo>
                <a:lnTo>
                  <a:pt x="75" y="453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84480" y="5237280"/>
            <a:ext cx="1079640" cy="179280"/>
          </a:xfrm>
          <a:custGeom>
            <a:avLst/>
            <a:gdLst/>
            <a:ahLst/>
            <a:rect l="l" t="t" r="r" b="b"/>
            <a:pathLst>
              <a:path w="680" h="113">
                <a:moveTo>
                  <a:pt x="0" y="113"/>
                </a:moveTo>
                <a:lnTo>
                  <a:pt x="0" y="22"/>
                </a:lnTo>
                <a:lnTo>
                  <a:pt x="680" y="0"/>
                </a:lnTo>
                <a:lnTo>
                  <a:pt x="680" y="113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84480" y="541512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90840" y="5661000"/>
            <a:ext cx="468360" cy="468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60880" y="5643720"/>
            <a:ext cx="7538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481880" y="2600280"/>
            <a:ext cx="10080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5400000">
            <a:off x="4081680" y="1686600"/>
            <a:ext cx="566640" cy="777960"/>
          </a:xfrm>
          <a:custGeom>
            <a:avLst/>
            <a:gdLst>
              <a:gd name="textAreaLeft" fmla="*/ 0 w 566640"/>
              <a:gd name="textAreaRight" fmla="*/ 567000 w 5666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42" y="0"/>
                </a:lnTo>
                <a:lnTo>
                  <a:pt x="21600" y="10800"/>
                </a:lnTo>
                <a:lnTo>
                  <a:pt x="136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05360" y="1763640"/>
            <a:ext cx="8730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1534680" y="4717800"/>
            <a:ext cx="566640" cy="792360"/>
          </a:xfrm>
          <a:custGeom>
            <a:avLst/>
            <a:gdLst>
              <a:gd name="textAreaLeft" fmla="*/ 0 w 566640"/>
              <a:gd name="textAreaRight" fmla="*/ 567000 w 56664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42" y="0"/>
                </a:lnTo>
                <a:lnTo>
                  <a:pt x="21600" y="10800"/>
                </a:lnTo>
                <a:lnTo>
                  <a:pt x="136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32080" y="4797360"/>
            <a:ext cx="7966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51280" y="2401920"/>
            <a:ext cx="1008000" cy="64908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45" y="0"/>
                </a:moveTo>
                <a:lnTo>
                  <a:pt x="1134" y="0"/>
                </a:lnTo>
                <a:lnTo>
                  <a:pt x="1134" y="862"/>
                </a:lnTo>
                <a:lnTo>
                  <a:pt x="0" y="862"/>
                </a:lnTo>
                <a:lnTo>
                  <a:pt x="45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97360" y="2435400"/>
            <a:ext cx="431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8920" y="5423040"/>
            <a:ext cx="1008000" cy="649080"/>
          </a:xfrm>
          <a:custGeom>
            <a:avLst/>
            <a:gdLst/>
            <a:ahLst/>
            <a:rect l="l" t="t" r="r" b="b"/>
            <a:pathLst>
              <a:path w="1134" h="862">
                <a:moveTo>
                  <a:pt x="45" y="0"/>
                </a:moveTo>
                <a:lnTo>
                  <a:pt x="1134" y="0"/>
                </a:lnTo>
                <a:lnTo>
                  <a:pt x="1134" y="862"/>
                </a:lnTo>
                <a:lnTo>
                  <a:pt x="0" y="862"/>
                </a:lnTo>
                <a:lnTo>
                  <a:pt x="45" y="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05000" y="5443560"/>
            <a:ext cx="43164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17800" y="236700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73440" y="3089160"/>
            <a:ext cx="28728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54520" y="3089160"/>
            <a:ext cx="287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673440" y="3089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54520" y="30891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48120" y="303696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33360" y="540216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89000" y="6124680"/>
            <a:ext cx="28728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70080" y="6124680"/>
            <a:ext cx="287280" cy="730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89000" y="61246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70080" y="61246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263680" y="60721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592280" y="568944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01640" y="572292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176720" y="2684520"/>
            <a:ext cx="36036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86080" y="271764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00560" y="5419800"/>
            <a:ext cx="107964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056200" y="6141960"/>
            <a:ext cx="28728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37280" y="6141960"/>
            <a:ext cx="28728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56200" y="61419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137280" y="614196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30880" y="608976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53040" y="60897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34120" y="53704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87840" y="5638680"/>
            <a:ext cx="505080" cy="36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06920" y="568152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722920" y="50911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03840" y="5052960"/>
            <a:ext cx="739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32720" y="5423040"/>
            <a:ext cx="1079280" cy="290520"/>
          </a:xfrm>
          <a:custGeom>
            <a:avLst/>
            <a:gdLst/>
            <a:ahLst/>
            <a:rect l="l" t="t" r="r" b="b"/>
            <a:pathLst>
              <a:path w="680" h="183">
                <a:moveTo>
                  <a:pt x="0" y="0"/>
                </a:moveTo>
                <a:lnTo>
                  <a:pt x="344" y="183"/>
                </a:lnTo>
                <a:lnTo>
                  <a:pt x="680" y="0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32720" y="5423040"/>
            <a:ext cx="1079280" cy="720720"/>
          </a:xfrm>
          <a:custGeom>
            <a:avLst/>
            <a:gdLst/>
            <a:ahLst/>
            <a:rect l="l" t="t" r="r" b="b"/>
            <a:pathLst>
              <a:path w="544" h="362">
                <a:moveTo>
                  <a:pt x="0" y="362"/>
                </a:moveTo>
                <a:lnTo>
                  <a:pt x="0" y="0"/>
                </a:lnTo>
                <a:lnTo>
                  <a:pt x="544" y="0"/>
                </a:lnTo>
                <a:lnTo>
                  <a:pt x="544" y="3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83520" y="542304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684840" y="5775480"/>
                <a:ext cx="1121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S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sup>
                        </m:sSubSup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7039080" y="5732640"/>
            <a:ext cx="468360" cy="46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10360" y="4521240"/>
            <a:ext cx="208908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СОС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497480" y="4554360"/>
                <a:ext cx="807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 flipV="1" rot="16200000">
            <a:off x="1875960" y="3006000"/>
            <a:ext cx="133560" cy="863640"/>
          </a:xfrm>
          <a:custGeom>
            <a:avLst/>
            <a:gdLst>
              <a:gd name="textAreaLeft" fmla="*/ 0 w 133560"/>
              <a:gd name="textAreaRight" fmla="*/ 48240 w 1335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547640" y="3017880"/>
                <a:ext cx="649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827600" y="3813120"/>
                <a:ext cx="29862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,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 rot="5400000">
            <a:off x="2859480" y="3193200"/>
            <a:ext cx="179280" cy="2879640"/>
          </a:xfrm>
          <a:custGeom>
            <a:avLst/>
            <a:gdLst>
              <a:gd name="textAreaLeft" fmla="*/ 0 w 179280"/>
              <a:gd name="textAreaRight" fmla="*/ 64800 w 179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523960" y="4665600"/>
                <a:ext cx="649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7534440" y="4064040"/>
            <a:ext cx="1609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темпер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урных д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831960" y="3778200"/>
                <a:ext cx="4111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по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u</m:t>
                        </m:r>
                      </m:sup>
                      <m:e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51520" y="3260880"/>
                <a:ext cx="6778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5662440" y="3343320"/>
            <a:ext cx="323064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т упругих дефор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ов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ответств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илиям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3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8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324000" y="2350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ЕРЕМЕЩЕНИЯ  В  СТАТИЧЕСКИ НЕОПРЕДЕЛИМЫХ СИСТЕ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250920" y="608040"/>
            <a:ext cx="86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мещения от кинематических воздействий (смещений связ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92360" y="1087560"/>
            <a:ext cx="532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и смещаемых связе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СН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136520" y="1023840"/>
                <a:ext cx="2078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116000" y="1803240"/>
                <a:ext cx="203184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т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3419640" y="1773360"/>
            <a:ext cx="547344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ределяются методом сил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де          – реакции от единичного воздействия в ОСМС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в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татически определимой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истеме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огд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841920" y="2297160"/>
                <a:ext cx="477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 </m:t>
                        </m:r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14280" y="2984400"/>
                <a:ext cx="7821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Δ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Δ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Δ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X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Δ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,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т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Δ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Δ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,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210280" y="3475080"/>
                <a:ext cx="22413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30080" y="4341960"/>
                <a:ext cx="243864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575240" y="2000160"/>
                <a:ext cx="27367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758880" y="3979800"/>
                <a:ext cx="276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600360" y="3921120"/>
                <a:ext cx="32292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7475400" y="348768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198960" y="4411800"/>
                <a:ext cx="2657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т</m:t>
                        </m:r>
                      </m:sup>
                    </m:sSub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902200" y="4413240"/>
                <a:ext cx="2546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т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i</m:t>
                            </m:r>
                            <m:r>
                              <m:t xml:space="preserve"> 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6804000" y="398952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rot="5400000">
            <a:off x="3851640" y="4471200"/>
            <a:ext cx="131760" cy="733320"/>
          </a:xfrm>
          <a:custGeom>
            <a:avLst/>
            <a:gdLst>
              <a:gd name="textAreaLeft" fmla="*/ 0 w 131760"/>
              <a:gd name="textAreaRight" fmla="*/ 47520 w 131760"/>
              <a:gd name="textAreaTop" fmla="*/ 19080 h 733320"/>
              <a:gd name="textAreaBottom" fmla="*/ 7142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2598000">
            <a:off x="3799800" y="4855680"/>
            <a:ext cx="56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971640" y="3386160"/>
                <a:ext cx="48243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5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9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1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3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4:13:14Z</dcterms:modified>
  <cp:revision>69</cp:revision>
  <dc:subject/>
  <dc:title>Слайд 1</dc:title>
</cp:coreProperties>
</file>